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A97-DF85-4A8D-BBA4-DCD4C485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1CD-3D12-4A0A-9C52-9925A41D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34B-B424-4C92-B7F6-6C9F8C81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456-C094-4D12-BF61-AAAB0DDC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7B71-D72F-4FB5-A81B-A4D9BE45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5611-9E1A-4F36-B519-52C0D1C4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81DD-9919-4905-818E-0B3A3DBA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24FF-D8CA-477F-BA55-AA066596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4DBC-5842-41AD-A77D-3ECB09D2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E1E7-A3F5-4905-81B8-95F916A1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8A78-FABC-481E-83B8-C630BEF4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892-2D14-4404-83F3-E29A93CA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61A7-7E81-40DE-9FD8-2141DD1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8012-2ECF-4C9E-A84A-52687113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C47C-0F32-4C0E-8DDF-9D373BAA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DCB9-F9BE-4770-9D7F-77EB640D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F98C-5BF8-4F3B-9ED4-CEAB5E9F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735-4148-48F2-9617-8713058E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BFA-200D-4947-8B48-C98E0800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812-5C19-46D0-87B2-E9911839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2E3-CB9E-4FAC-826F-9C60ACBE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19E-37DB-4878-B30B-90C52E56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B20-7529-4BAA-9B83-0E8A10B5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A1B-E7CC-4AB3-AD90-69C6EB3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4892-CA41-4A7E-B028-3575D976A47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0EA4-BA1F-4E25-9CDE-3EC21C31DE5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mnant Shall Ret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arter 8, Lesson 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g.21-27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0812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3886200" y="2133720"/>
            <a:ext cx="0" cy="40384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228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ere We Are In This Less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2590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Juda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 Babylon Under King Nebuchadnezz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4343400"/>
            <a:ext cx="1067040" cy="4572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ree Young Hebrews Under 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drach, Meshach, and Abednego in the fiery furnace – Dan.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buchadnezzar’s Impressive Statue/Ido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essure To Compromi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omp and Ceremon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aith To Overco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ourth Man in the Fi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 In Jud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ehoiakim rebels against Nebuchadnezzar – 2 Kgs.24: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Egypt rebelled in 601 B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bylon lost the battle with Egypt but regrouped to return again in 598/7B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ehoiakim died about this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gypt was defeated and Jerusalem surrendered – 2 Kgs.24:8-16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Chron.36:9-1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 In Jud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edekiah was placed in Jerusalem by Nebuchadnezzar as his puppe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coniah (Jehoiachin) would not have a descendant prospering on the throne – Jer.22:24-3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Second group of captives were taken away, including Ezeki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ome of these thought God was blessing them over the previous group of captives – Jer.24:1-1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so, some of Mordecai’s people were taken – Esther 2:5-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ome thought the stay in Babylon would be short-lived, but Jeremiah told them to settle in for a long stay – 29:1-3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 In Jud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94 BC – Fourth year of Zedekia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alk among Judeans (that were left) that they could align with Edom, Moab, Ammon, Tyre and Sidon and succeed against Babyl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eremiah said not to listen to the false prophets and submit to Babylon – Jer.27:1-2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 In Jud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eremiah said that Babylon would fall and never rise again – Jer.51:59-6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zekiel was called to prophesy among the commons in Zedekiah’s 5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year – Ezek.1: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zekiel 1-24 cover years 5-9 of Zedekiah’s reign in Jerusale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iege of Jerusalem lasted from year 9-11 of Zedekiah’s puppet reig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zekiel’s Min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ay, 4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nth, 5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year of captivity – Ezek.1: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vers Chapters 1-7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ay, 6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nth, 6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year –(Ch.8-19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ay, 5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nth, 7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year –(Ch.20-23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ay,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nth, 9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year –(Ch.24:1-2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19:14:00Z</dcterms:created>
  <dc:creator>Terry W. Benton</dc:creator>
  <dc:description/>
  <dc:language>en-US</dc:language>
  <cp:lastModifiedBy>Frank D Vines</cp:lastModifiedBy>
  <dcterms:modified xsi:type="dcterms:W3CDTF">2007-02-01T15:54:38Z</dcterms:modified>
  <cp:revision>4</cp:revision>
  <dc:subject/>
  <dc:title>A Remnant Shall Retur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